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5A9E-F7E0-48FF-A7EC-ADA03D46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DC4-87F6-440F-B61B-828BF6CD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2CD-9D96-4D0C-B9E0-06089A06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F20-0E08-4642-98BC-94C82CF8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81E-F992-42E2-8860-F255FDE8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D52-3A8A-482A-B3F4-36BE618F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349-10CC-45A0-95B9-E6F23713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F9A-DA3E-40E6-9E3B-EF7B1287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79C-B019-4142-98B6-192F0AFF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2C86-6D3C-444A-90E0-E3ABE9CA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EFF-F8C9-43A0-88D6-D49DCC50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06B-F628-4B8E-A888-E75F270A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3D17-844B-43EE-A1E3-8EA2B70C8E4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E50B-65CA-4BEE-8530-BB8EDBB938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Angle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 bandwidth always equal to twice the highest frequency of modulating signal, regardless of its amplitu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how power is distributed among carrier and sideban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s on identifying number of significant sideband pai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sel table is table of percentages expressed in decimal 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3-1: FM Side Frequencies from Bessel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3-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FM Side Frequencies from Bessel Function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tab03_01.jpg"/>
          <p:cNvPicPr/>
          <p:nvPr/>
        </p:nvPicPr>
        <p:blipFill>
          <a:blip r:embed="rId1"/>
          <a:stretch/>
        </p:blipFill>
        <p:spPr>
          <a:xfrm>
            <a:off x="236520" y="152280"/>
            <a:ext cx="86868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occupied bandwidth of sig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quency difference between highest-order significant side frequencies on either side of carri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deband or side frequency significant if its amplitude is 1% (0.01) or more of unmodulated carrier amplitu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modulation indices produce wider-bandwidth signa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M Spectrum Analysis/Power Distrib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sel table shows carrier and side-frequency levels in terms of normalized amplitud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ressing levels in decibel terms useful from practical standpoint; it matches measurement scale of spectrum analyz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M Spectrum Analysis/Power Distrib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sel table used to determine power distribution in carrier and sideban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son’s Rule Approxi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s bandwidth necessary for FM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ero-Carrier Amplitu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ero-carrier conditions (carrier nulls) suggest a convenient means of determining deviation produced in FM modulato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deband and Narrowband F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deband FM trans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more bandwidth than e occupied by AM transmissions with same maximum intelligence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ized mobile radio (SM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-way voice communication rather than entertain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deband and Narrowband F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band FM (NBFM)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ccupied bandwidths no greater than those of equivalent AM transmis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 Modulation in the Time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ple FM Gener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of impinging sound waves determines rate of frequency ch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 of impinging sound waves determines amount of frequency change, or deviation from frequency produced by oscillator in absence of mod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centage of Modulation and Deviation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perce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on index at 100% varies inversely with intelligence frequency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asts with 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ll or 100% modulation means modulation index of 1 regardless of intelligence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centage of Modulation and Deviation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percentage of modulation describes maximum deviation permitted by law or reg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centage of Modulation and Deviation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iation ratio (D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ximum frequency deviation divided by maximum input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term in television and FM broadcas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nient characterization of FM systems as wideband or narrowba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has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ng signal causes instantaneous carrier phase, rather than its frequency, to shift from its reference (unmodulated) val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rier phase angle in radians either advanced or delayed from its reference value by amount proportional to modulating signal amplitu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has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685800" indent="-34272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hasor speeds up or slows down in response to modulating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of modulating signal does not affect deviation in FM; in PM, it do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 of modulating signal has effect on rate of ch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e of change describes calculus derivat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Suppres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M Noise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advantage of FM over 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M has superior noise characteristic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 of noise to received signal causes change in its amplitu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has inherent noise reduction capability not possible with 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Suppres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ture Eff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herent ability of FM to minimize effect of undesired signals applies to reception of undesired station operating at same or nearly same frequency as desired s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uses receiver to lock on stronger signal by suppressing weaker but can fluctuate back and forth when two are nearly eq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Suppres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empha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transmissions provide artificial boost to electrical amplitude of higher frequenci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relative strength of high-frequency components of audio signal before it is fed to modula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Suppres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empha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remains the same; desired signal strength increa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emphasis network normally inserted between detector and audio amplifier in receiv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 Modulation in the Time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ept of Devi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iation constant defines how much carrier frequency will deviate for input voltage leve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iation constant dependent on system desig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ing deviation on either side of carrier is essential for determining occupied bandwidth of modulat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 Modulation in the Time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omain Repres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 of carrier never chan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 causes carrier to shift (deviate) both above and below its rest or center frequency that preserves both amplitude and frequency characteristics of the intellig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 Modulation in the Time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 Major Concep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dev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ount by which oscillator frequency increases and decreases from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FM transmi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ng signal applied directly to frequency-determining element of carrier oscillat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 Modulation in the Time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 Major Concep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rect FM causes instantaneous phase angle of carrier to be varied in response to modulating signal and is example of phase mod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ing bandwid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ing where the power resides in modulat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ing modulation inde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step in determining occupied bandwidth of modulated carr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modulating signal frequency and amplitude affect ind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aneous modulating signal amplitude (not frequency) affect modulation ind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sel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-level mathematical tool for solving frequency components of frequency-modulated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ed FM signal will often occupy a wider bandwidth than its equivalent AM counterp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10:06Z</dcterms:modified>
  <cp:revision>6</cp:revision>
  <dc:subject/>
  <dc:title>Slide 1</dc:title>
</cp:coreProperties>
</file>